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CE79-65E8-4973-9034-8969A7EAB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4D75-6AE4-484A-8B63-397E3101D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BE55-BE79-428B-BE3E-2E4A10DF1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183F-F6F5-4036-8911-B490A5B73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D9BE0-5518-4274-9084-7DD05AD50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34092-0717-4B96-95AB-596972A3F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1FB6B-9255-430A-86AD-AA7820D4A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1479A-D941-4839-961F-A5E77EA3B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95A66-F823-483C-91B1-06A11A27C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E9DB0-C961-4D04-8739-5D0738F0F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A4833-4DE8-4159-978F-498C3F6C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66FE-BDB2-40DD-826E-A2DCD3936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38DA1-11B5-4425-B8A3-40544D49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55D65-8D44-4AE0-9659-B49A0DBB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791B3-DD6D-4A88-BB17-89427E705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130BB-E5D1-4791-9082-4977EE191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6AC8D-59DA-4AB5-9C71-47FD8A7E2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7D6F-5AD0-4815-9571-8C0C3C7C6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92EA-710B-49B5-87AD-91109F1B8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72AF-C969-46BA-9A0A-EF8040BF4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56FD-C56E-401A-86B8-FBEDC8F56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93B7-9BC2-497B-BC20-B012D059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D9DE-4DE7-46CC-849D-D767F960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B2E8-15E0-40D1-81BA-1CE38296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37C56-3EA3-4B0E-9AC2-62935429B2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7CBBB-D874-44B1-B1C2-464762D284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ff"/>
                </a:solidFill>
                <a:latin typeface="Arial"/>
                <a:ea typeface="標楷體"/>
              </a:rPr>
              <a:t>邏輯問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86000" y="4696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04213043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喻珮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760" y="-5904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93120" y="941400"/>
            <a:ext cx="3432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因為每句供詞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說的第一句話先確定兇手一定在四人之中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富翁家的時候富翁還活著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離開的時候富翁都已經死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前兩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後兩個去的，兇手是第二個或第三個去的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二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一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二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三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三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四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可能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，兇手比他晚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49320" y="2208240"/>
            <a:ext cx="4564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5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與邏輯無關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3320" y="1271520"/>
            <a:ext cx="7953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葬禮的故事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母親去世了，姐妹倆一個十八歲、一個十二歲，她倆打起精神舉辦葬禮，在葬禮上出現了一個俊帥的男子，是母親友人的兒子，姊姊上前向男子致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喪禮之後一個月，妹妹突然遇害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為什麼？兇手是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52560" y="3276720"/>
            <a:ext cx="749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因為姊姊喜歡那位男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所以想再辦一次喪禮，就能再見到那位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960" y="271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新細明體"/>
              </a:rPr>
              <a:t>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Arial"/>
                <a:ea typeface="新細明體"/>
              </a:rPr>
              <a:t>邏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2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傳統上，邏輯被作為哲學的一個分支來研究，和文法與修辭一同被稱為古典三學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自十九世紀中葉，「形式邏輯」已被作為數學基礎而被研究，當中經常被稱之為符號邏輯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903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，阿弗烈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諾夫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懷海德與伯特蘭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羅素寫成了《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rincipia Mathematica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》，試圖將邏輯形式地建立成數學的基石。不過，後來大部份都被集合論所取代掉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當對形式邏輯的研究漸漸地擴張了之後，研究也不再只侷限於基礎的議題，之後的各個數學領域被合稱為數理邏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形式邏輯的發展和其在電腦上的應用是電腦科學的基礎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假設有一個池塘，裡面有無窮多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現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空水壺，容積分別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如何只用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水壺從池塘里取得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 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原文網址：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https://kknews.cc/zh-tw/education/kxeoylb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4760"/>
            <a:ext cx="822960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由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，剩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把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然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把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裝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滿，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由於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因此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只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能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然後將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入空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再灌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最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一同去住宿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每個人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去支付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住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宿費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老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說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當天有優惠住宿費只需要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就好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請小弟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小弟心想她們並不知道打折的事情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所以就偷偷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收起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只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表示她們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 x 90 = 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另外還有小弟拿走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70 + 20 = 2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 - 290 = 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少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請問這個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被誰拿走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6080" y="-144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1665360"/>
            <a:ext cx="3557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73560" y="1679400"/>
            <a:ext cx="4624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講清楚一點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計算上沒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但是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去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比是沒有意義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已經順利退還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此金額的總數就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- 30 = 270 = 3 x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則是包括在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中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當然不可以用加法加上去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6080" y="1665360"/>
            <a:ext cx="375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x 90 = 27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絕對沒有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這裡沒有意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- 20 =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是她們住宿所花的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簡單的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題目用加法是誤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減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85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在數學邏輯問題中，答案都不像題目中看似的那麼簡單，但是我們總能從題目所提供的條件，來找到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問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４＋６＝６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１＝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８＋２＝２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８＝８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那麼，請問１３－３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3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26800" y="1655640"/>
            <a:ext cx="66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6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也就是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再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=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2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=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88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1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=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3-3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3=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3440" y="-81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5080" y="946080"/>
            <a:ext cx="7072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位富翁在自家被殺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當天只有四個人去過富翁家，而且都是獨自去的，沒有人能幫他們洗清嫌疑，於是警方傳訊了這四個嫌疑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這四人各自做了兩句供詞，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後發現其實四人說的每一句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知道到底是誰殺害了富翁嗎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5T18:24:42Z</dcterms:created>
  <dc:creator>User</dc:creator>
  <dc:description/>
  <dc:language>en-US</dc:language>
  <cp:lastModifiedBy/>
  <dcterms:modified xsi:type="dcterms:W3CDTF">2018-05-16T00:14:1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28-9.1.0.4811</vt:lpwstr>
  </property>
</Properties>
</file>